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png" ContentType="image/png"/>
  <Override PartName="/ppt/media/image11.jpeg" ContentType="image/jpe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08BE-15AD-43CD-B8C2-69728A31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95CD-5C22-41E9-BF6F-C38C3AAA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6E1E-0CE6-4BF4-B1A1-94C8FB0B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7193-8313-41D0-9AC1-E4DA015A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B9BA-8221-413A-A58C-0E95A029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083-9412-423F-8738-E7D753EF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E729-A0E3-4515-AD52-87EC2047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CC9F-E9D2-4079-B9D9-508E07DD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64C8-24FA-46EB-A435-FBCE0AB9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B416-81B1-4835-A197-39109935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448D-9CA6-4F1B-BC56-680A48AC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CCA-8ED0-4AF7-8B1A-067CD775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55D8-8A76-4F74-8F64-BC02C8095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What Should I get at McDonald’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14002" r="0" b="0"/>
          <a:stretch/>
        </p:blipFill>
        <p:spPr>
          <a:xfrm>
            <a:off x="2438280" y="2819520"/>
            <a:ext cx="4114800" cy="3276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280" y="55627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ten by Jessica Kratzer, Literacy &amp; AT Coach, D75/NYCD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book is written for Eric at 721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Boardmake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The Picture Communication Symbols © 1981-2004 by Mayer-Johnson LLC. All Rights Reserved Worldwide. Used with Permiss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A1B-2527-47B9-B99F-BF2D6D26CE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876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think I want 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kes from McDonald’s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 you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1485720" cy="1486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419720" y="1752480"/>
            <a:ext cx="1485720" cy="1486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038480" y="33526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391520" y="1371600"/>
            <a:ext cx="1485720" cy="1486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1447920" y="1600200"/>
            <a:ext cx="1485720" cy="1486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2514600" y="22860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7658280" y="3581280"/>
            <a:ext cx="1485720" cy="148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249F-7826-41E9-9E6B-AA86A8CB3D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05280" y="4647960"/>
            <a:ext cx="9448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think I want 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ders of french fries from McDonald’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 you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467480" y="3657600"/>
            <a:ext cx="1436760" cy="1436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981080" y="2286000"/>
            <a:ext cx="1581120" cy="1581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4724280" y="30481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5181480" y="380880"/>
            <a:ext cx="1581120" cy="1581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819520" y="0"/>
            <a:ext cx="1485720" cy="1486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6248520" y="2133720"/>
            <a:ext cx="1581120" cy="1581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657600" y="1600200"/>
            <a:ext cx="1581120" cy="158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97CB-4159-449D-ABF6-265E810190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think if I eat all this food, I’ll be si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638680" y="83808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62520" y="1447920"/>
            <a:ext cx="1828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D64A-49A2-4833-99CB-D66711640A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5105520"/>
            <a:ext cx="9601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think I want </a:t>
            </a: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mburger from McDonald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 you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49604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5B3B-923F-4B1A-8F98-CA8501E9A1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think I want 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hocolate shakes from McDonald’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 you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2838600" cy="283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1A5A-686D-4A24-8B3F-84CF37F72B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think I want 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ish filets from McDonald’s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 you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19920" y="5335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733920" y="25909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ADB-6CEF-4F3B-8F24-DFA2AF9DF8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think I want 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ig Macs from McDonald’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 you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221904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219400" cy="218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76520" y="2666880"/>
            <a:ext cx="2220840" cy="2187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562720" y="2895480"/>
            <a:ext cx="222084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5D4-609B-45E5-A678-DCAB2C0189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6483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think I want 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ot fudge sundaes from McDonald’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 you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943600" y="22860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429000" y="12952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BA25-E4C2-4E5D-8716-879BF8E009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4800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think I want 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hicken nuggets from McDonald’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 you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4757760" cy="330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AB0-4168-4B94-9D86-5BBA19FD6D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46479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think I want 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ce cream cones from McDonald’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 you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343640" y="25146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76720" y="30481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410080" y="30481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04920" y="2286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3505320" y="3049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6934320" y="22860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4D48-A790-4F93-974B-4BD0094DA2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4952880"/>
            <a:ext cx="8381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think I want 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alads from McDonald’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 you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1905120" cy="1269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477120" y="3733920"/>
            <a:ext cx="2361960" cy="1574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952880" y="16765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55520" y="4608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55520" y="46080"/>
            <a:ext cx="2359080" cy="1573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457200" y="3276720"/>
            <a:ext cx="2590920" cy="1726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6553080" y="22860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3429000" y="358128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3276720" y="457200"/>
            <a:ext cx="1904760" cy="127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2440-BE2F-4436-A938-D397E6EE77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3:09:32Z</dcterms:created>
  <dc:creator>Administrator</dc:creator>
  <dc:description/>
  <dc:language>en-US</dc:language>
  <cp:lastModifiedBy>cbender</cp:lastModifiedBy>
  <dcterms:modified xsi:type="dcterms:W3CDTF">2005-05-09T18:49:44Z</dcterms:modified>
  <cp:revision>21</cp:revision>
  <dc:subject/>
  <dc:title>Slide 1</dc:title>
</cp:coreProperties>
</file>